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8C1E-B5AB-4242-A562-2B9A37EBB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D580-CD72-47B2-B793-02697BA05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FFF9-5A37-4B26-ABDD-73DE068A03C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F583-9AFD-49D8-AFD5-56DAE3C70E3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08AF-C10A-4DB4-B451-1E5595947AB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F2CF-403C-4A23-9898-AE037875EBE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0E74-A692-4D89-97B1-0595DE59401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DBCC-F4C4-4EDB-88BD-CF27E8E1F7D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BE70-ECBB-4787-8903-FEF3E2303C3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AEEF-8C6D-48A0-8427-D63245E976E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203D-FDDE-454C-BA16-06092F4008B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8714-FE5E-48EE-9B5D-E1646765349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D9D9-E752-4872-A22E-02E01BBA9CE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80B1-6453-4155-A2A1-F54992F1633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941E-E01D-4F8C-9700-DDA279F4B6D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037F-81A3-4D53-9F27-FED3D055BE4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CCB6-FB3F-4903-9743-8743B432EB0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AF9A-95A8-4CB4-B9C3-82D86B6F68A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BE9B-9B10-4B04-BB88-1813B4DDD62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2FB0-DADF-4133-B4D6-EFA52BCDD22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F0DF-5189-4B68-A66F-B1C09521FD6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4B1D-4EE4-4D15-BADD-8483FA3C7B2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B98C-6F1B-4E44-AAC2-58A09A766AA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454C-6FFB-4B0F-9DE4-449763C2096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8A11-8106-4BA9-9BA9-866F88AEADF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EE5C-1181-42B5-A88B-8CB1057793D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307B-E1A1-4E6C-85AE-597B0176484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F226-EE77-4637-851D-F1ECA9095C1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83E4-5D69-48F5-97C7-91443D88402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7351-26A9-4FF2-9AA5-0A636DA4476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1DA9-1A36-4A4C-AA5E-3BF6F5F75C1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9A05-72E6-46BB-92CE-10CC2791A28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6DEE-261E-41BA-B912-9D6EED76C99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DEA4-C136-4A06-8542-1DDB4988ABD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B21F-C01C-4B29-A24E-84D939A3D76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ACB7-044D-4E36-9B6A-24AF9E0DD77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41C7-B182-443D-90BE-56A642396E9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7F76-4C97-4893-A1C3-2D9A3829429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фармације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В18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РМАКОЛОГИЈ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ОВИ ПРОТИВ ХЕЛМИНТ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ОВИ ПРОТИВ ПРОТОЗОА И ЕКТОПАРАЗИ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. неде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ф. др Драган Р. Миловано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АНТИМАЛАРИЦ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аса I - асексуалне еритроцитне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лорокин, мефлокин, хинин, хинид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nsida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пириметамин плус сулфадокс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трацикл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аса II - асексуалне еритроцитарне и примарне хепатичне форме (хипнозои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aron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Атоваквон плус прогвани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аса III - примарне и латентне хепатичне форме (хипнозоити) плус гаметоци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ма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Arial"/>
              </a:rPr>
              <a:t>ХИНОЛИНИ И ДЕРИВАТ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Аминохинол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хлорокин, хидроксихлорокин, амодиаки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Метанолхиноли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алкалоиди из биљке цинхона: хинин, д-хинидин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мефлоки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-Аминохинол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примаки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рив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халофантрин и др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ХЛОРОКИН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тималарично деј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мета секвестрацију хема (ферипротопорфирин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), оштећење мембране и макромолек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чење напад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офилакса, маларија у трудноћ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тинфламаторно дејство: РА, С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мебицидно дејство: амебни апсце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вобоља, дигестивне тегобе, сметње вида, свра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тинопатија, ототоксичност, миопатија, аритмије, менталне промене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утна токсичност, мала терапијска ширина (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рдиоваскуларни и централни симпто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Arial"/>
              </a:rPr>
              <a:t>ХИНИН И МЕФЛОКИ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рзоделујући шизонтоциди, делом гаметоц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инин из Јужне Америке у Европу 163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ови избора за профилаксу и л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ечење резистентних обл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. falciparum 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et viva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регије са високим ризик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нхониза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инитус, ослабљен слух, главобоља, визуелне сметње, мука, дијареј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лок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 триго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централни ефек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ПРИМАКИ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вни шизонтоцид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(хипнозои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радикација (лечење) P. vivax и ov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eumocystis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jirovec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са клиндамицином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и фолинат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бро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носи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тхемоглобинемија, дигестивне тего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емолиза: особе са наследним дефицитом Г6П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ОСТАЛИ АНТИМАЛАРИЦ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тифол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Диаминопиримидини: пириметамин (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редуктаза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Сулфонамиди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и сулфони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дихидроптеорат синтетаза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сулфадоксин, дапсон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Бигваниди: прогванил (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редуктаза-тимидилат синтетаза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Пириметамин </a:t>
            </a:r>
            <a:r>
              <a:rPr b="1" lang="sr-CS" sz="21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сулфадоксин (FansidarR</a:t>
            </a:r>
            <a:r>
              <a:rPr b="1" lang="sr-CS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Arial"/>
              </a:rPr>
              <a:t>Дапсон + хлорпрогвани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хибитори респиратоног лан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Атоваквон (цитохром бц1)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плус прогванил (Malarone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ОСТАЛИ АНТИМАЛАРИЦИ</a:t>
            </a:r>
            <a:r>
              <a:rPr b="1" lang="sr-CS" sz="34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лкилирајући аген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сквитерпенски лакто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и ендоперокс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тремизинин, артемет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ер, артесун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ије описана клинички значајна резистен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енантренметаноли: халофантрин, лумефантрин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(сл. хинолини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теме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лумефантрин (Co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e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iame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тибиотици: доксициклин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индамиц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Лумeфaнтр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Лумeфaнтрин je aрил-aлкoхoлни дeривaт хaлoфaнтрин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фикснoj кoмбинaциjи сa aртeмeтeрoмкoристи зa лeчeњe мaлaриje изaзвaнe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Plasmodium falciparu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o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иличнo je eфикaсa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глeдa дa имa слaбиjу кaрдиoтoксичнoст oд хaлoфaнтрин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упљи oд вeћинe других aлтeрнaтивa штo му oгрaничaвa ширу примe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Arial"/>
              </a:rPr>
              <a:t>РЕЗИСТЕНЦИЈА ПЛАЗМОДИЈУМ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Xлорокин-резистентни сојеви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t, Pfmdr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е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. фалципарум, свуда оси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Кариби и Централна Америка (сем Панаме), Аргентина и Парагвај, северна Африка, делови Блиског и Средњег Истока, Кореј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. вивакс, значајно 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Папуа Нова Гвинеја и Индонезиј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туелни подаци: СЗО, ЦД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ТЕРАПИЈА НАПАД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зистентн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. falciparum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 et viva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темисинин комбинована терапија (АС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тесунат/амодиакин, артеметер/лумефантрин, дихидроартемисинин/пипераквин, артесунат/мефло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инин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/хинидин, плу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ксициклин, клиндамицин, п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риметамин/сулфадокс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флокин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атоваквон/прогван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lasmodium vivax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сензитивни) 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v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лорокин потом прима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lasmodium malari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лоро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ПАРАЗИТИ И ЛЕКОВ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ОЗОЕ - једноћелијске животињ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амебициди и антималариц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ЕЛИМИНТИ - цр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антихелминтиц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РТРОПОДЕ - ектопараз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инсектициди и репелент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ПРОФИЛАКСА МАЛАРИЈ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штитне ме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бегавати комарце у сумрак и зо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сити одећу која покрива откривне делове 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ристити репеленте (ДЕЕТ) и постељину натопљену инсектицидима (пиретроид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штитна мрежа за спав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емиопрофилакса (леков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Шизонтоцидне концентрације лека у време инфекције плазмодијум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дељу пре путовања (нежељена дејства лека), за време боравка и 4 недеље после долас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ХЕМИОПРОФИЛАКС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гије сензитивних сојева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хлорокин (недељн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гије резистентних соје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тов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/прогванил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мефлокин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ксициклин, прима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спектна маларија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тов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/прогван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ларија у трудноћ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рапија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орокин или хин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филакса: хлорокин са прогванилом и фолном кисли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ЛЕЈШМАНИОЗ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сте и подврсте род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Leishman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преносе му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трацелуларно, грануломи: висцерални органи, кожа и слузн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сцерална лајшманиоза с. КалаАз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. donova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Индија/Африка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. infant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Медитеран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. chaga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Нови Свет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жна (кутана) лајшманиоза (спонтано зацељењ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. tropica, L. мајо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Стари Свет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. mexicana, Л. мајо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Нови Св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ко-кутана лајшманиоза (Нови Св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. brasiliensis, L. panamen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ЛЕЈШМАНИОЗЕ - ТЕРАПИЈ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енерално, постојећи лекови нису ни довољно безбедни ни ефикас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дињења антимон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глумин антимонат и На-стибоглуко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нтамидин изетионат (метанесулфона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а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мфотерицин, паромомицин (аминосидин), интерферони, алопуринол, милтефос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ТРИПАНОЗОМИЈАЗ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фричка спаваћа болест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мува Це-Ц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ypanosoma brucei gambiense Duton</a:t>
            </a:r>
            <a:r>
              <a:rPr b="0" i="1" lang="sr-CS" sz="1800" spc="-1" strike="noStrike">
                <a:solidFill>
                  <a:srgbClr val="000000"/>
                </a:solidFill>
                <a:latin typeface="Arial"/>
              </a:rPr>
              <a:t> е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hodesi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сен: меларсопрол и трипарсами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ариш-Херксхајмерова реак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рамин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(протеинуриј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нтамидин 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еукопениј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флорнитин, дифлуорометилорнитин (арсен-резистентни сојев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утна америчка трипанозомијаза (Ј. Амер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ypanosoma cruzi Chag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агасова болест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ифуртимокс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или 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нзидаз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ксични, 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ех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задовољавајући (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oкaлнa тeрaпиja лејшманиоз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oлeсници с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утaнoм лejшмaниjaзo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aли ризик зa дисeминaциjу бoлe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лaгим oбликoм (мaњe oд 4 лeзиje, нe вeћe oд 5 цм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Један од следеће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њeкциja нaтриjум стибoглукoнaтa у лeзиje (20 мг/кг нeдeљнo, 8-10 нeдeљa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aрoмoмицин у виду мaсти (двa путa днeвнo, 20 дaн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иoтeрaпиja тeчним aзoтoм (дo 3 aпликaци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4"/>
          <p:cNvGraphicFramePr/>
          <p:nvPr/>
        </p:nvGraphicFramePr>
        <p:xfrm>
          <a:off x="1028880" y="1714680"/>
          <a:ext cx="7111800" cy="496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8880" y="1714680"/>
                    <a:ext cx="7111800" cy="49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Друге протозо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ХЕЛИМИНТИ – црв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матоде (ваљкасти црв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цревне: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Ascaris, Enterobius, Trichuris, Necator, Ankylostoma, Toxocara, Strongyloides, Trichinell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филаријазе: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Onchocerca, Wurchereria, Brugia, Lo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матоде (метиљ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прави метиљи: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Fasciola, Paragonimu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шистозоме: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Shistozom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стоде (пантљичар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цревне: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Taenia, Diphylobothrium, Hymenolep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цистични, ткивни облици: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Echinococcu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Arial"/>
              </a:rPr>
              <a:t>Нематод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раве у цревима (геохелмин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носе се фекално-оралним пу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caris lumbricoides, Enterobius vermicularis, Trichuris trichi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рве улазе кроз кожу, преносе се и фекално-орал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cator americanus, Ankylostoma dode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рве улазе кроз кожу, бурн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 знац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кутана ларва мигран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ongyloides stercoralis, Ancylostoma brasilien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рве захватају орг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xocara canis -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сцерална/окуларна ларва мигран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ichinella spiralis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трихинел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кално-орална инфестација, ларве излазе кроз кож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racunculus medinen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Arial"/>
              </a:rPr>
              <a:t>БЕНЗИМИДАЗОЛ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штећење микротубула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були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руга дејства: инхибиција транспорта глук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бендазо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ltri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к је избора за већину немат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лбендазол (Bimena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ебно ларварни облици 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те пантиљич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Веома безбедни, опрез труднице и мала деца (1-2 г</a:t>
            </a:r>
            <a:r>
              <a:rPr b="1" lang="sr-CS" sz="1800" spc="-1" strike="noStrike">
                <a:solidFill>
                  <a:srgbClr val="000000"/>
                </a:solidFill>
                <a:latin typeface="Tahoma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иабендаз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тиснут, знатно 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ксичнији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НС, хепатотоксичнос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ПРОТОЗОЕ - једноћелијске животињ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мебе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tamoeba histoly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руге протозое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lantidium, Giardia, Isospora, Toxoplasma, Trichom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ларија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lasmo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јшманијаза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ishm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ипанозомијаза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ypanos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ОСТАЛ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ирантел памо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аришућ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уромишићн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л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сантел памо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лог пирантела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пект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ипераз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азива млитаву парали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ри лекови, ретко се кори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ки алтернатива нитроимидазолима за децу и трудн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Филариј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опска обољ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раве у екстраинтестинално (лимфатици, ок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ларије и микрофиларије (ларв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носе их муве и комар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мфатична (елефантија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urchereria bancrofti, Brugia malay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ои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a l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чно слепило (онкоцерција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chocerca volv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Лекови и филариј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вермект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Активира хлорне канале регулисане глутаматом и ГАБА-ом, парализа паразир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Филаријазе, нематоде (кутана ларва мигранс) и ектопаразит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етилкарбамаз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Оштећује органеле и макромолекул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лакшава дејство имуних механизам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цотијева реакциј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алергијска с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ензибилизације на протеине мртвих паразит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Arial"/>
              </a:rPr>
              <a:t>Метиљи и пантљичар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ематоде (метиљ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етра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ciola hepatica, Opisthorchis spp., Clonorchis sinensi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рево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ciolopsis bu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ућа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aragonimus westerm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илхарз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histozoma haematubium, japonicum  et mans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стоде (пантљичар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ревне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enia solium еt saginata, Diphyllobothrium latum, Hymenolepis nana et diminuta, Dipylidium cani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истични, ткивни облици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Cysticercosis (T. solium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Echinococcus granulosus et multlocul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екови, метиљи и пантљича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азиквант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флукс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+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ција, парализа, тегумент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тиљ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им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асциола)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нтљичаре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(осим цистичне форм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ру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самникин, артеме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трифонат- органофосфатни инсектиц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тинол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и триклабендазол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елики мети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иклозам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хиби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сидативну фосфорилацију и преузимање глуко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нтљичаре (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 убија јајашца и цист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Педикулоз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diculus hunamus corporis - те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не захтева примену лекова већ дезинсекцију одела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физичка средства (српско буре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инсектициди: малатион, ДД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diculus humanus capitis (гла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аја одстрањивати густим цешљем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tirius pubis пубис (стидни преде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лечити партнера код стидних вашиј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пија: 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стектици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Перметри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нтетски пиретроид (&gt;2,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иретрум - сирови екстракт биљк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rysanthemum cincerari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иретрин - пречишћен екстракт, мешавина три ест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иретрин 1/2, цинерин 1/2, и јасмолин 1/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уротоксичан, блокира N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канале, пар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ксичност за људе је релативно слаба, мање од 2% се ресорбује, тровања-ЦНС стимулациј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пликовати 10 мин, испрати, ишчешљати и поновити за 7-10 д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руги педикулоц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ндан - хексахлороциклохексан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амабензенхексахлорид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органохлорни инсектицид, ефикасан скабицид и педикулоцид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око 10% се ресорбује и акумулира у масном ткив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не примењивати у трудноћи, конвулзивни (неуротоксични) потенција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латион -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хибитор холинестера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инос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пинoсa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дикулoцид изoлoвaн из прoдукaтa фeрмeнтaциj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ccharopolyspora spinos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шaвин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инoзинa A и Д у oднoсу 5: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aзивa нeурaлну eксцитaциjу инсeктa, пoслeдичну пaрaлизу и eлиминaциj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Фармацеутски облик и индик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9% суспeнзиj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зa лeчeњe вaшљивoсти глaв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потре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днoм aпликoвaн, oдстojи 10 минутa пa сe испeрe и пo пoтрeби пoнoви зa 7-10 дaн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Опре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aдржи бeнзил aлкoхoл пa сe нe прeпoручуje кoд oдojчaди млaдje oд 6 мeсeц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Шуга - </a:t>
            </a: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rcoptes scabie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пликовати лек на целу кожу сем лица (очиј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д деце, старих и имунокомпромитованих и ко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авити 8-10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4 ч.), поновити за 7 д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чити све укућане, чистоћа одела и постељине (пеглањ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Амебијаза - </a:t>
            </a: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Etamoeba histolytic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ликовати непатогене амебе/протоз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симптоматс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инвазива, доминирају цистични облиц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мптоматска (инвазивна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тестинал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мебни (недизентерични) колитис (дијареј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мебна дизентер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мебома црева (може да наликује тумор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мебни апендицит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кстраинтестинал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јетра, плућа, мозак, слезина и други орг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Скабицид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мет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н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вермек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мп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ри скабицид, не иритира, непријатан мирис и бо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ви избор у трудноћи и одојч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ципитирани сумпор, 5% у петролеу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отами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нзил бензо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АМЕБИЦИД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уминални амебици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дилоксанид-фуроа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јодокинол и др. (потиснути због токсичности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антибиотици: паромомицин, тетрациклини, еритромици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кивни амебици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нитроимидазоли: метронидазол, тинидазол, орнидазо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лују и на луминалне али је брза ресорп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дихидро)еметин, хлорокин - ефикасни али токсичн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МЕТРОНИДАЗО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дукује се у паразиту (фередоксини, PFOR)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итро-радикал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штећење макромолеку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вазивна амебиј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уге протозе: трихомонијаза, ђардиј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ероби и микроареофили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acteroides, Clostridium, Helicobacter, Campylob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гестив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тегобе, стоматитис, метални укус неуротоксичност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жне реа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са алкохолом (!), дисулфирам-лај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ЛЕЧЕЊЕ АМЕБИЈАЗ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ицоноше-асимптоматск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уминални амебицид, 7-20 д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стиналн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ронидазол, п.о., 5-10 дана, по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уминални амебиц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кстраинтестиналн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ронидазол, и.в., 10 дана, по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уминални амебицид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 потреби аспирација садржа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MАЛАРИJ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modium viv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бенигна маларија терцијан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modium ov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р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е, слично као вивакс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modium malari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маларија квартана (средње тешка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modium falcipa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маларија терцијана/субтерцијана (малигна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ДЕЈСТВО АНТИМАЛАРИК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 један лек не убија спорозо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је могуће спречити инфекцију, али је могуће спречити развој симптома маларије који су узроковани асексуалним форм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 један лек није ефикасан против свих облика (хепатичних и еритроцитарних) који могу егзистирати код истог пацијен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летно излечење захтева примену комбинације ле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User</cp:lastModifiedBy>
  <dcterms:modified xsi:type="dcterms:W3CDTF">2017-09-14T22:01:12Z</dcterms:modified>
  <cp:revision>19</cp:revision>
  <dc:subject/>
  <dc:title>Slide 1</dc:title>
</cp:coreProperties>
</file>